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29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35.wmf" ContentType="image/x-wmf"/>
  <Override PartName="/ppt/media/image14.wmf" ContentType="image/x-wmf"/>
  <Override PartName="/ppt/media/image53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33.wmf" ContentType="image/x-wmf"/>
  <Override PartName="/ppt/media/image34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36.wmf" ContentType="image/x-wmf"/>
  <Override PartName="/ppt/media/image48.wmf" ContentType="image/x-wmf"/>
  <Override PartName="/ppt/media/image50.wmf" ContentType="image/x-wmf"/>
  <Override PartName="/ppt/media/image13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32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51.wmf" ContentType="image/x-wmf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7F78-DEAF-46A3-95E2-A2E22A49E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5564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1F30-6722-42F4-80FE-0A55F3BE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832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6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3832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E9FF-2383-40CD-96D7-86D1AD9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8364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128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5564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8364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128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C5DC-1E01-40AD-A2EF-A8E9C8E6D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F47A-2319-48AC-BA2E-73D127A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231E-AD3C-4CD5-B5C9-D96805B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832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8402-5422-4D34-A3C7-63E76AC2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767D-2EAA-42C4-8C52-97BFFAE2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AC0B-CDEE-404B-BF21-A7C22974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832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BD43-BED6-40EB-8726-4CF5E3C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832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3832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D99C-4E6E-4CD3-8206-316CA73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832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564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D5DC-C993-4144-9C0F-55973C4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e7eb"/>
            </a:gs>
            <a:gs pos="50000">
              <a:srgbClr val="f5f8f9"/>
            </a:gs>
            <a:gs pos="100000">
              <a:srgbClr val="dfe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12600">
            <a:solidFill>
              <a:srgbClr val="dfe7eb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Arial CE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Freeform 4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Rectangle 11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Arial CE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c05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c059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c05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c05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c05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Arial C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Arial 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 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c05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ABD3-F3EE-4B72-B4B7-AB7ED3DD8C72}" type="slidenum">
              <a:rPr b="0" lang="hu-HU" sz="1000" spc="-1" strike="noStrike">
                <a:solidFill>
                  <a:srgbClr val="0c05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17" name="Group 19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18" name="Freeform 20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</p:grpSp>
      <p:grpSp>
        <p:nvGrpSpPr>
          <p:cNvPr id="24" name="Group 26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25" name="Rectangle 27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Arial CE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Arial C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Analóg modulált jelek átvitele RF (lineáris és nemlineáris torzítású) csatornán.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Szorzómoduláto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Moduláláskor és demoduláláskor a spektrumok vivő távolsággal tolódnak el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Szorzómoduláto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9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Szorzómoduláto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z AM jel esetében mindkét oldalsáv tartalmazza a teljes információt. Szorzással történő demodulálás esetén mindkettő alapsávba kerül és az összeg adja az eredő információt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kimeneti jel csak K(w) hálózatnak megfelelő lineáris torzítást szenved, új összetevők nem jelennek meg. Nincs nemlineáris torzítás.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Feltételezzük, hogy: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z amplitudó és fázisátvitel lineáris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Csatorna keskenysávú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z adó végfokozat C, B vagy AB osztályban működik (hatásfok miatt) (nemlineáris szakasz)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Vevőoldali RF fokozatok görbe karakterisztikájúak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Keverő nemlineáris karakterisztikájú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Zavaró jelek adó és vevőoldalon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z alacsonyfrekvenciás zavarjelek, valamint a vevőbementen a szomszédos frekvenciák és a torzítás hatására keletkező harmonikusok látszólag kívül esnek az átviteli sávon, de a nemlineáris átvitel miatt torzítást okoznak.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74883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Vizsgálatok: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) Csak AM jel van a csatornában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b) Alacsonyfrekvenciás zavarjel és zaj adódik az AM jelhez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c) Vevőbemenetre több idegenfrekvenciás adó jele kerül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 torzítások keletkezés alapján: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Dinamika módosulás (a)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Moduláció mélység változás (a)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Zavaró oldalsáv növekedés (a)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Búgás és zajmoduláció (b)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Intermoduláció ©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Keresztmoduláció ©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492360" y="4581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e400"/>
                </a:solidFill>
                <a:latin typeface="Arial CE"/>
              </a:rPr>
              <a:t>Vételtechnikai jelenség</a:t>
            </a:r>
            <a:endParaRPr b="0" lang="en-US" sz="3200" spc="-1" strike="noStrike">
              <a:solidFill>
                <a:srgbClr val="0c0593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27712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Intermodulációs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torzítás hatására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3273480" cy="97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356000" cy="6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4176720" cy="44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2843280" y="2781360"/>
            <a:ext cx="61084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Zavaró oldalsáv növekedés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Dinamika módosulás: az egyes összetevők intenzitás aránya megváltozik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Modulációs mélység változás mint előbb, de oldalsáv összetevő vivő relációjában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vivő általában növekszik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 (kép esetén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515280" cy="32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1403280" y="4653000"/>
            <a:ext cx="66484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 (kép esetén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341964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TV adástechnikában az intermodulációs torzítás hatására fellépő zavar az oldalsáv visszatérés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nemlineáris torzítás hatására a kép bekerül a hangba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417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M jel átvitele nemlineáris torzítású  RF csatornán (kép esetén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képoldali összetevők intermodulációs termékei a hangvivő környezetébe esnek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9850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Jeltovábbítás útj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640" y="1052640"/>
            <a:ext cx="7772400" cy="46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ódolt (modulált) jel útja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dóberendezés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Rádiócsatorna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Vevőberendezés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(Amplitudó vagy szögmodulált jel.)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dóoldal jellemzője: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Vevőoldal jellemzője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Nemlineáris működés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lacsony hasznos j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Nagy jelszintek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idegen zavaró jelek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Alacsonyfrekvenciás zaj,zava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Gyakorlatban RF erősítők, keverők tápfeszültsége zajt tartalmaz. A zavarokat a nemlineáris hálózaton való áthaladás után már nem lehet szétválogatni az RF jeltől, mert az modulálta az RF jelet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imenőjel általános esetben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020000" y="2205000"/>
            <a:ext cx="187956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76327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Alacsonyfrekvenciás zaj,zava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4803840" cy="191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417348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Alacsonyfrekvenciás zaj,zava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Átviteli sávba eső részek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Bemenő és kimenő jel spektruma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2881080" cy="153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58834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Keresztmodulációs és intermodulációs zavar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Több adó jele kerül a bemenetre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421956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692360" y="2924280"/>
            <a:ext cx="6784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Keresztmodulációs és intermodulációs zavar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4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eskenysávú rendszer lévén K(w) átviteli sávban csak a páratlan rendű összetevők kerülnek. Elsőként a harmadrendűvel számolunk.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igyűjtve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4668840" cy="1508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5208480" cy="113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2195640" y="4869000"/>
            <a:ext cx="5545080" cy="54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tretch/>
        </p:blipFill>
        <p:spPr>
          <a:xfrm>
            <a:off x="2195640" y="5445000"/>
            <a:ext cx="6199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Keresztmodulációs és intermodulációs zavar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keresztmoduláció páratlan rendű nemlinearitás hatására keletkezik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Megszüntethető ha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Idegen adó jelét nem engedjük be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z átvitel során nincs 3-ad, 5-öd, n-ed rendű nemlinearitás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keresztmoduláció akkor zavaró ha nagyszintű az idegen adó. (pl. idegen műsor látszik a képben)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Intermodulációs zava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z intermodulációs zavarhoz legalább 2 idegen jel szükséges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Intermodulációs torzítás – általános eset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Intermodulációs zavar – vételtechnikai probléma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(Minden modulációra igaz nem csak AM-re !!!!)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40384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Intermodulációs zava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46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Páratlan rendű intermodulációs zavar – veszélyes mert a szomszédos adók jeleit jutatja be a sávba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Páros rendű összetevők a távoli jeleket jutatják be a sávba.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243840" cy="1778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1403280" y="4365720"/>
            <a:ext cx="63327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3300"/>
                </a:solidFill>
                <a:latin typeface="Arial"/>
              </a:rPr>
              <a:t>Intermodulációs zavar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46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Rádiócsatornában is keletkezhet nemcsak eszközön. (keresztmoduláció is)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Luxemburg hatás (adó telephelye felett az ionoszféra nemlineáris viselkedést mutat és más KH adó jele is visszaverődik, átveszi a távoli adó modulációját) (keresztmoduláció)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ntennacsatlakozások, kikötőrendszerek, földhálók is okozhatják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M jel átvitele lineáris és nemlineáris torzítású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Lineáris torzítások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mplitudómenet okozta hibák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c05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Sávkorlátozás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c05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mplitúdó egyenetlenség</a:t>
            </a:r>
            <a:endParaRPr b="0" lang="en-US" sz="20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Torzítatlan átvitelhez elegendő a             tartományban lévő összetevőket átvinni. Ha az átviteli csatorna további sávkorlátozást okoz megnő a torzítás. A sávkorlátozás hatására az FM jel AM modulációt szenved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651640" y="2703600"/>
            <a:ext cx="10810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AM jel átvitele lineáris torzítású RF csatorná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Lineáris torzítás okai: rezgőkörök, sávszűrők, félrehangolás, szelektív fading, stb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torzítás mértéke függ  a csatorna dekódolási módszertől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Burkoló detektor (Csak AM DSB esetén ad torzítatlan jelet)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M jel átvitele lineáris és nemlineáris torzítású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050920" y="1440000"/>
            <a:ext cx="511344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M jel átvitele lineáris és nemlineáris torzítású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Ha a sávkorlátozás a vivőre szimmetrikus akkor a demodulált jelben csak páratlan rendű nemlineáris összetevők vannak. Ha asszimmetrikus akkor másodrendű összetevők is megjelennek az alapsávi jelben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M jel átvitele lineáris és nemlineáris torzítású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mplitúdó egyenetlenség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evésbé érzékeny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4759560" cy="231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5796000" y="2781360"/>
            <a:ext cx="273348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M jel átvitele lineáris és nemlineáris torzítású csatorná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z amplitúdó változást a limiter levágja.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Gond a futási idő ingadozás.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398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 zaj hatás függ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Moduláció módjátó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Csatornában lévő zajszinttő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Demodulálás módjátó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43084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M jel esetében ráül a modulált jel burkolójára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57400" y="2330280"/>
            <a:ext cx="682920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Demodulátor be és kimenetén lévő alapsávi jel zaj viszonya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M rendszerek esetében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527280" cy="178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20890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Belátható SSB jelnél pont annyira lesz zajos a demodulált jel mint amennyire az RF jel volt. Az SSB spektruma = alapsávi jel eltolt spektrumával.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042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M DSB-né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8066160" cy="371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1979640" y="5229360"/>
            <a:ext cx="1203120" cy="75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345456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FM je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imeneti és bemeneti jel zaj viszony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Demodulátor karakterisztika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012000" y="1473120"/>
            <a:ext cx="792000" cy="38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2545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Burkoló detektoros demodulálá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z alapsávi információ az átvitel során csak lineáris torzítást szenved, és mentes lesz a nemlineáris torzítástól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640872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7344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imeneti zajteljesítmény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69200" cy="265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463840" cy="1136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21034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Jelátvitel zajos csatorná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Kimeneti jel zaj viszony függ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Zavarójel amplitúdója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Zavarójel és FM jel vivője közötti frekvencia különbség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Modulációs löket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Széles és keskenysávú FM esetén: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95640" y="4653000"/>
            <a:ext cx="2737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Burkoló detektoros demodulálá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4788000" cy="379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42847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Burkoló detektoros demodulálá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568800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Az AM jel burkolóját az oldalsáv vektorösszetevők adják. Ha az összetartozó vektorösszetevők amplitúdója azonos arányban változik (+, -), illetve egy adott fáziseltolódáshoz azonos mértékű de ellentétes előjelű fáziseltolódás tartozik akkor a kimeneti jel is torzítatlan szinusz jelekből fog állni, csak azok egymáshoz vett aránya módosul a bemenethez képest. Azaz a burkoló sem fog tartalmazni nemlineáris torzítást.  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997600" y="1413000"/>
            <a:ext cx="29368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Burkoló detektoros demodulálá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46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Ha az előző feltételek nem teljesülnek akkor az alsó és felső oldalsáv vektorok eredője nem esik egybe a vivővektorral, hanem a modulációs frekvenciának megfelelően attól vagy késik vagy siet. 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9292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Burkoló detektoros demodulálá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"/>
              </a:rPr>
              <a:t>Ez a fázisingadozás (fázismoduláció) eredményezi, hogy az eredő nagyfrekvenciás vektor a modulálójel egyik félperiódusában előbb a másikban később éri el a csúcspontját. A demodulált jel torz lesz.  </a:t>
            </a:r>
            <a:endParaRPr b="0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8323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Szorzómodulátor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7993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5:14:06Z</dcterms:created>
  <dc:creator>Honfy József</dc:creator>
  <dc:description/>
  <dc:language>en-US</dc:language>
  <cp:lastModifiedBy>Vári Péter</cp:lastModifiedBy>
  <dcterms:modified xsi:type="dcterms:W3CDTF">2014-10-13T10:02:26Z</dcterms:modified>
  <cp:revision>18</cp:revision>
  <dc:subject/>
  <dc:title>KORSZERŰ SZTEREO KÓDOLÓK </dc:title>
</cp:coreProperties>
</file>